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2A20-B07E-4055-9FA0-07975984AF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 шифрования с наиболее богатой и интересной истор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30 лет в качестве стандарта шифрования – с января 197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ьтернативное название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Encryptio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S 4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M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шифрования на блок, а не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 и Ларс Кнудсен (1998): ряд малопрактичных атак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M. Trip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сто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иливающий вариан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M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4-м подключ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96 (ряд специалистов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)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ака при наличии 2 известных текстов на одном и том ж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*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56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 Риттер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). 128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тный блок, 224-битный ключ. «4-ступенчатый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использовать реализации 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 (1997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крывается при наличии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ранных открытых текстов за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8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«Двукратный 4-ступенчатый»: 4-кратный блок, 224- или 448-бит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стник конкур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рс Кнудсен (199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8-битный блок, 128-, 192- и 256-бит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использовать существующие реализ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скорость шиф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эквивалентных ключей + несколько непрактичных ата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A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 Килиан и Филипп Рогауэй (1996). Идея Рональда Ривеста (198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-битный ключ. (или 120-битный 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3=k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ряд вариантов, не отличающихся принципиа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ы: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й лучше, ч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 атак на основную версию, напр. линейный криптоанализ при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6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вестных открытых текстов, эквивалентные клю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8-битный (16*48)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 и Ади Шами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1990)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льный криптоанализ успешен при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59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ранных открытых текстах, над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6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шны также линейный криптоанализ и атака на связанных ключ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-Seberry-DES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уренс Браун, Дженнифер Себерри (1990). Константный циклический сдвиг на 7 б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-Seberry-DES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лекс Бирюков, Дэвид Вагнер: сдвиговая атака – 128 выбранных открытых текстов + незначительное количество операций – действует для большого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40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а слабых ключ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-Seberry-DES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верняка подвержен атакам на связанных ключ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-80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ust Technologi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казу правительства Канады (199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-80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а только процедура расширения ключа – можно использовать реализ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щие загружать 768-битный расширен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-80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далось найти сведения об использовании и криптостойк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и Блюменталь, Стивен Белловин (199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змеров ключа, усиление процедуры расширения ключ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ое количество раундов, рекомендуется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й размер ключа (от 40 до 256 би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ппа японских специалистов, 19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блоки меняются местами в зависимости от значения определенных битов ключа (по замыслу авторов, усиление против дифференциального криптоанализ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шаи Бен-Аройя, Эли Бихам (1993): один из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15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й приводит к отсутствию перестановок субблоков (на рисунке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же: только 2% возможных ключей являются беспроблем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DES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нджо Ким, 1991-199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иление только таблицами замен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против линейного криптоанализ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 дифференциального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5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 обо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, Алекс Бирюков: таблиц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ереставленны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сильные таблицы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, Алекс Бирюков: невозможно создать зависящие от ключа таблицы замен, более стойкие, чем таблиц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юс Шнайер: в подавляющем большинстве случаев случайные таблицы замен несравнимо слабее, чем таблиц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тный бл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-битный ключ, из которого используется 56 бит, использование остальных стандартом не лимитирова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ть Фейс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, Алекс Бирюков. Назначение: использование вмест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ех реализациях, которые позволяют загружать таблицы зам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9-битный ключ: наложение перед заменами, перестановка таблиц, наложение после таблиц + обыч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ряд вариантов, в том числе, со 119-битным ключом (без перестановок таблиц) и с таблицами о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льный и линейный криптоанализ несколько сложнее, чем 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вержен атакам на связанных ключ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DES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уренс Браун, Дженнифер Себерри (1989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унаследовать высокую криптостойк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DES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16 таблиц замен с тем же принципом действия, переработка всех перестановок, увеличение битов вращения в процедуре расширения ключ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DES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шаблон без конкретных парамет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*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тся в ряде вариан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хэш-функции для хранения паролей пользов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*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ие о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товая перестановка после опер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зависит от 12-битного модификатора паролей –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1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*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имущества: усложнение словарной атаки, невозможность использования высокоскорост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фраторов для вскрытия паро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DES: 64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унда, 96 битный ключ, половины которого поочередно использу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K-DES: 64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унда, 192-битный ключ, четвертинки используются поочеред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ы: Алекс Бирюков и Дэвид Вагнер – алгоритмы изобретены для иллюстрации расширенной сдвиговой ата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войном (субблок = 32 бита) блоке и 16 раундах эквиваленте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ключа эквивалентн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вариант с независимыми подключ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, Ади Шамир (1990): 16-раундов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блоком 8*32 бит (рекомендованный авторами алгоритма вариант) вскрывается дифференциальным криптоанализом при наличии 6 выбранных открытых тек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хам, Шамир: «любой вариан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DES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быстрый, ч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же и слабее, ч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ппа японск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– xDES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использовать реализ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размер блока, ключа и количество раун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DES1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аунда, 128-битный блок, 168-бит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рс Кнудсен (199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DES1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крывается на основе 2 выбранных открытых текстов выполнением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58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, подвержен атаке «встреча посередин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DES2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исунке) – 5 раундов, 256-битный блок, 560-битный клю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рс Кнудсен (199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D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крывается на основе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3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ных открытых текстов выполнением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юс Шнайе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1996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DES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 невозможно использовать из-за громоздк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использования в пассив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ID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 быстрый и относительно сильный (для данного применения) алгорит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ппа немецких специалистов,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новая таблица замен вместо 8 – экономия энергонезависимой 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XL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огично, но на баз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X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 активно продвигается авто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 с учебными цел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ены в несколько раз с сохранением всех принципов рабо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итный блок, 10-битный ключ, 2 раун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ще широко использу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модификаций имеет лишь историческое значение – видимо, кром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L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XL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х, скорее всего, ожидает «большое будущее» в их специфической ни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цы все различны, каждая заменяет 6 бит на 4, каждая содержит 4 строки по 16 знач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боты таблиц: крайние 2 бита определяют номер строки, остальные 4 – номер столб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2 в зависимости от номера раун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вращения на переменное число бит и сжимающей перестановки приводит к тому, что в каждом раунде используется уникальный набор битов ключ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йко выдержал 20 лет массового всемирного криптоанализ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криптоанализ (Мицуру Мацуи)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4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вестных открытых тек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льный криптоанализ (Эли Бихам, Ади Шамир) –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47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ранных открытых тек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Дэвиса (Бихам, Алекс Бирюков) – 6 битов ключа при наличии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^5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ных открытых тек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 достаточно практичного алгоритма вскрыт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, чем полным перебором ключей (1996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ались все более скоростные методы перебора – 1993 г. (Майкл Винер): 21 минута – спецкомпьютер з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?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юс Шнайер: налож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блоков сложением по модулю 16 вмест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илива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использовать реализ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крывается атакой «встреча посередине» (Ральф Меркль и Мартин Хеллман, 1981),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 стандартом в 1999 г. Вмест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ешалось использовать только в старых реализациях)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S 46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riple DES EDE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же подвержен атаке «встреча посередине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сложной, Меркль, Хеллман, 198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riple DES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применимых атак нет (есть ресурсоемкая атака на связанных ключ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вестен с 1978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о применимо к любым другим алгоритмам блочного шиф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яет три раздельных шифрования каждого блока, поэтому различные связи между шифруемыми блоками данных могут быть установлены после выполнения каждого элементарного шифрования обычным алгоритм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нутренний» режи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режи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C | CBC | CB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и Бихам (1996) проанализировал криптостойкость 42 внутренних режим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8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х режим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DE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оказал, что наивысшей криптостойкостью обладают внешние реж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03A-E330-4A7C-806A-572CF3A9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2A6-E95F-47F5-8B86-51E7AAD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FC8-FED2-42C6-A7CC-6800B3C9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161-7D5E-446F-BA08-36468358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662-3F81-4CF6-ABF5-0B64599F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4CFB-1547-431F-B377-6634FD7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8A46-50D5-401E-8431-B5A1867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0EAB-814B-41FB-9A24-69973FC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AEA6-EF74-4752-9C84-A3A3A51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13BB-48F1-4263-9F60-B6DA425D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5CEE-33E8-4973-A442-E5A5FE3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F92-E69B-4513-8AB1-71697F5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281-FD51-4D6C-B4A9-14C6B6C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E18-DE88-4050-8490-6A7541A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23A4-748F-489D-A028-11954A4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7BF-7EDE-479E-B539-CDA920D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D66-E251-477C-8FE2-42CEF339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4B1-0EC5-4345-8A97-77FF91E6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4B8-4D2D-4DD0-8371-DEF9718F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6A3-69B3-44B5-A350-222767FE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BBE-706D-4F8F-B3BE-1B55647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C56-DD5E-415A-BE16-9A9DE2BB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15A-6BF7-4792-878D-40D69D3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B64-4775-4327-9AB2-1D3574B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spcBef>
                <a:spcPts val="18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028520" indent="-205560">
              <a:spcBef>
                <a:spcPts val="18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440000" indent="-205560">
              <a:spcBef>
                <a:spcPts val="18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1851480" indent="-205560">
              <a:spcBef>
                <a:spcPts val="1800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1851480" indent="-205560">
              <a:spcBef>
                <a:spcPts val="1800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1851480" indent="-205560">
              <a:spcBef>
                <a:spcPts val="1800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04A-ADED-45B5-97C1-AF74AD1F3B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F11-B9AC-452E-BCD5-ADD9255369FE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788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524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ahoma"/>
                <a:ea typeface="Times New Roman"/>
              </a:rPr>
              <a:t>Эволюция алгоритма </a:t>
            </a:r>
            <a:r>
              <a:rPr b="1" lang="en-US" sz="4400" spc="-1" strike="noStrike">
                <a:solidFill>
                  <a:srgbClr val="cc9900"/>
                </a:solidFill>
                <a:latin typeface="Tahoma"/>
                <a:ea typeface="Times New Roman"/>
              </a:rPr>
              <a:t>DES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c9900"/>
                </a:solidFill>
                <a:latin typeface="Tahoma"/>
                <a:ea typeface="Times New Roman"/>
              </a:rPr>
              <a:t>Исторический обзор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157720"/>
            <a:ext cx="81356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анасенко Сергей, нач. отдела разработки ПО Фирмы АНКАД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.т.н.,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MC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(499)731-0000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velop@ancud.ru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ww.ancud.ru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ww.panasenko.ru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5661000"/>
            <a:ext cx="2427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90384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Многократное шифрование с маскированием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27367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CBC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67120" y="907920"/>
            <a:ext cx="5118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90384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Многократное шифрование с маскированием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27367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Блейза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5688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176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Альтернативные концепции многократного шифрования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273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adder-D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4922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Альтернативные концепции многократного шифрования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187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adder-DES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68403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Альтернативные концепции многократного шифрования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273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A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48434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Увеличение ключа с помощью входного и выходного отбеливания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273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X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2786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Различные модификации процедуры расширения ключа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I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аз от процедуры расширения ключа и использование независимых ключей раундов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rown-Seberry-DES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модификация циклического сдвиг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-80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80-битный ключ и принципиально новая процедура расширения ключ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2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Модификация процедуры расширения ключа, увеличение количества раундов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4005000"/>
            <a:ext cx="216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S-SK/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6624720" cy="59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29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Внесение элементов случайности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RD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51280" y="260280"/>
            <a:ext cx="4473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Различные модификации</a:t>
            </a:r>
            <a:br>
              <a:rPr sz="4000"/>
            </a:b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таблиц замен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емейство алгоритмов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2DES, s3DES, s5DES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спользование случайно сгенерированных таблиц замен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Таблицы замен, вычисляемые на основе ключа шифрования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L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XL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380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Структура 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27640" y="189000"/>
            <a:ext cx="4281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Комплексное усиление алгоритма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37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iham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Другие усиливающие варианты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tended DES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двоение размеров блока и ключа с переработкой таблиц замен и перестановок и модификацией процедуры расширения ключ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*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модификация расширяющей перестановки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K-DES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4K-DES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величение размеров ключа и упрощение процедуры расширения ключ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29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Обобщающие варианты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GD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327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Обобщающие варианты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201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ы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xDESi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825480"/>
            <a:ext cx="7164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Варианты для использования в условиях недостаточных ресурсов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66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лгоритмы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X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2952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«Учебный» вариант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лгоритм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-D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5216400"/>
            <a:ext cx="8137440" cy="164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005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ahoma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157720"/>
            <a:ext cx="81356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анасенко Сергей, нач. отдела разработки ПО Фирмы АНКАД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.т.н.,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MC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(499)731-0000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velop@ancud.ru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ww.ancud.ru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www.panasenko.ru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56360" y="5661000"/>
            <a:ext cx="2427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Функция раунда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470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Расширение ключа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404640"/>
            <a:ext cx="5564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Проблемы алгоритма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ороткий (подверженный полному перебору) 56-битный ключ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едостатки процедуры расширения ключа (наличие слабых и эквивалентных ключей, свойство комплементарности ключей и др.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дверженность линейному, дифференциальному и др. видам криптоанализ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Основные направления усиления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«экстенсивное» увеличение ключа DES путем многократного шифрования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различные модификации процедуры расширения ключа с целью его увеличения и/или усиления данной процедуры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силение DES против дифференциального криптоанализа путем внесения в алгоритм элементов случайности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силение DES против линейного и дифференциального криптоанализа путем улучшения свойств таблиц замен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Направления модификации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1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различные обобщения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(на различные размеры ключа, шифруемого блока и переменное число раундов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«облегченные» варианты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для реализации в условиях недостаточных ресурсов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21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чебные варианты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S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Tahoma"/>
              </a:rPr>
              <a:t>«Экстенсивное» увеличение ключа путем многократного шифрования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338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DES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riple DES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uadruple DES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122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Внутренние режимы работы </a:t>
            </a:r>
            <a:r>
              <a:rPr b="0" lang="en-US" sz="3600" spc="-1" strike="noStrike">
                <a:solidFill>
                  <a:srgbClr val="cc9900"/>
                </a:solidFill>
                <a:latin typeface="Tahoma"/>
              </a:rPr>
              <a:t>Triple DES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5:16:56Z</dcterms:created>
  <dc:creator>Serg</dc:creator>
  <dc:description/>
  <dc:language>en-US</dc:language>
  <cp:lastModifiedBy>Serg</cp:lastModifiedBy>
  <dcterms:modified xsi:type="dcterms:W3CDTF">2009-04-02T08:03:09Z</dcterms:modified>
  <cp:revision>115</cp:revision>
  <dc:subject/>
  <dc:title>Исторический обзор - эволюция алгоритма DES</dc:title>
</cp:coreProperties>
</file>